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987-00B0-4D03-A697-C03C2A14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E79-6E58-4AB4-8FEC-62182FC8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205-7DEC-4FDA-B859-91E835EB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109-A2CB-4A9E-A977-9C8DB365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FDC-03FA-4DC6-9FF4-064BD110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3FF-9CC1-4DD2-A70C-9F2590C5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230-1B7B-4D7E-ABCB-81434E39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600-5F51-4824-B050-053201BC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24F-9B4E-4594-9D32-28F4C292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58C-2FF1-48A0-83E7-89CA72D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B3A-3E3A-45C5-8781-EAD1E869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390-59F1-440D-A772-AB26130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3CC9-E0DA-4874-BE26-52483B75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486864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i.opasne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i.opasnet.org/fi/Ydinvo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2360" y="2852640"/>
            <a:ext cx="35701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aluamme tietää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inu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ielipitee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5445000"/>
            <a:ext cx="3673440" cy="1047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6453360"/>
            <a:ext cx="5029200" cy="285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-181080" y="6453360"/>
            <a:ext cx="5029200" cy="28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4360" y="5013360"/>
            <a:ext cx="1825560" cy="1303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16360" y="765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Äänestikö kansanedustajasi oikein ydinvoima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076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ansalaisparlamentti ydinvoimast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251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n tulin kesätöihin minulla oli vain jokin suuntaa antava aavistus siitä mitä meinattiin ruveta tekemään. Kun tät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maa nyt on tehnyt tuntuu siltä, että jos Opasnet saadaan laajempaan tietoon tästä voi oikeasti olla hyötyä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716280"/>
            <a:ext cx="3097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elestäni on hyvä että tällaisia järjestelmiä kehitetään. Perinteinen edustuksellinen demokratia alkaa olla aikansa elänyt: vaihtoehtona tieteelliseen tutkimukseen tai varmistettuihin asiatietoihin perustuva keskustelu ja suora demokratia olisi mielestäni huomattavasti parempi. Opasnet voisi olla yksi askel oikeaan suuntaan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52640"/>
            <a:ext cx="280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a on loistava, tästä eteenpäin nähdään kuinka se toimii käytännössä. Projekti tuntuu välillä valtavalta ja haastavalta. Onneksi tämä vain kannustaa jatkamaan työn muuttuessa koko ajan myös mielenkiintoisemmaksi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760" y="1773360"/>
            <a:ext cx="3225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asnet on mahtava tilaisuus saada oma äänens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uluville. Sieltä löytyy faktatietoa ja mielipiteitä, joi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ulla pääsee mukaan asiaan kuin asiaan, vaikka 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ihen olisi muuten perehtynytkään. Ei siis tarvitse o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asta väitöskirjaa laatinut, jotta voisi san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ottavansa ja tulla kuulluksi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60280"/>
            <a:ext cx="3600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sätyöntekijöiden kommentteja Opasnetistä ja ydinvoimatyöstä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84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3499920"/>
            <a:ext cx="367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haillaan Opasnetissä on meneillään arvioi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omalaisen ydinvoiman hyvistä ja huonoista puolis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vustolle on kerätty, jäsennelty ja tiivistetty artikkeleit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elipiteitä, päätöksiä ja tietoa ydinvoimasta, jot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kainen löytäisi aiheesta yhtenäistä ja olennaista tiet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vitsematta koluta puolta nettiä kerätäks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uamansa tiedot kasaan. Kaikkea sivuilla olevaa v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ommentoida vapaasti, kaikki ovat tervetulle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humaan yhteisistä asioista ilman pelkoa sensuuris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asnet on kaikille avoin ja yhteinen. Mitä useam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hminen ilmaisee mielipiteensä ja jakaa muille tieton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tä viisaampia muut ovat ja sitä vaikeampi päättäjien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la ottamatta niitä huomioon tehdessään iso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äätöksiä. Arvioinnin, siis yleisen keskustelun, j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ivomme sinunkin osallistuvan, tuloksista raportoida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en eduskuntavaalej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6360" y="475920"/>
            <a:ext cx="2876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attaa tuntua, että keskuste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dinvoimasta on ohi. Mik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ällaisesta kerrotaan vasta nyt? Kaksi uut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dinvoimalaa sai rakennusluva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tta tulevaisuudessa lisäydinvoi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kentaminen puhuttaa Suomes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masti. Jo tehtyihin päätöksiin ei v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ää vaikuttaa, mutta tulevaisuu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äätöksiin voi. Isoihin päätöksiin, ku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dinvoiman rakentamiseen, jot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ikuttavat meidän elämäämme 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levaisuuden jälkipolviin vielä hyvi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vin kauan, on parempi, että m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hminen sanoo mielipiteensä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inka monta ihmistä olisi hyvä määr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äättämään ja vaikuttamaan siihe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ainen on Suomen tulevaisuu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ittääkö siihen pelkkä eduskunta, v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täisikö päätöksenteossa olla muk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itakin? Mihinkään lopputuloks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dinvoiman suhteen ei ole viel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äädytty Opasnetissä, joten kannatt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äydä sanomassa oma mielipiteensä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imitamme lopputuloks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edoksi päättäjille j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nedustajaehdokkail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en vaalej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1439640" cy="143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1400400" cy="158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524720" y="162864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63512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003640" y="4941720"/>
            <a:ext cx="924120" cy="90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-396720" y="6572160"/>
            <a:ext cx="5029200" cy="285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356000" y="6572160"/>
            <a:ext cx="5029200" cy="285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260280"/>
            <a:ext cx="3097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in sanotaan mutta harvoin uskotaan, ett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ksi ihminen voi teoillaan vaikuttaa isoih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oihin. Internetiin on tullut työtila, Opasnet, juu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tä varten, että tavalliset ihmiset saavat helpo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keää tietoa yhteiskunnallisista asioista 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ivat kommentoida niihin siten omalta osalta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ikuttaen päätöksi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2:02:06Z</dcterms:created>
  <dc:creator>ctep</dc:creator>
  <dc:description/>
  <dc:language>en-US</dc:language>
  <cp:lastModifiedBy>Jouni Tuomisto</cp:lastModifiedBy>
  <dcterms:modified xsi:type="dcterms:W3CDTF">2010-07-15T14:28:15Z</dcterms:modified>
  <cp:revision>12</cp:revision>
  <dc:subject/>
  <dc:title>Slide 1</dc:title>
</cp:coreProperties>
</file>